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6734B-BE41-4225-8D90-A156A29EB5CB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E94DE-04AC-4F6A-875E-FADAEFDD385F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30937"/>
                </a:solidFill>
                <a:latin typeface="Arial"/>
              </a:rPr>
              <a:t>Sistema eléctrico e painel de instrumento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7684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716360" y="2878200"/>
            <a:ext cx="431496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320" y="1628640"/>
            <a:ext cx="904212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9200" y="1484280"/>
            <a:ext cx="88138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4162320" cy="315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959360" y="2349360"/>
            <a:ext cx="40766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04840" y="1197000"/>
            <a:ext cx="8543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rodutores ou geradores de corren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2204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de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a folga da correia da ventoinha semanalment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e desgaste das escovas de seis em seis mes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ubrificar o rolamento com duas pingas de óleo quando se muda o óleo do mo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sliga-lo sempre que forem fazer soldaduras a elect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21337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s seus compon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com o motor em funciona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mais do que 10 segundos para evitar sobreaqueci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ogo que o motor inicie o seu funcionamento devemos deixar a chave de ignição ou interruptor para evitar avari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nível de electrólito n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estado dos borne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orifício de respiro d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 estado de carga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fumar ou foguear próximo da bateria, principalmente quando está em carg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retirar ou introduzir os terminais nos bornes da bateria á pancad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vitar grandes inclinações para que não haja derrame de líquid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colocar objectos metálicos sobre a bateria pois em contacto com os bornes pode provocar curto-circui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ante-la sempre bem fixa ao tractor, pois a trepidação pode provocar fissur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pre que a caixa de ebonite estiver suja, lava-lá com água e sabão e depois seca-l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m tempo frio evitar que a bateria fique com pouca carga pois exige-se mais esforço da bateria nos arranques, sendo estes mais difícei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eléctr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res de Energia (dínamo e alternador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dores de Energia (motor de arranque e luzes..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umuladores de Energia (bateria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976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istinguir: voltagem, intensidade e resistênc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5" name="Picture 2" descr="C:\FORMAÇÃO PROFISSIONAL\Imagens de Apoio\Cores\Electrico\Volagem - Amperagem - Resistencia.jpg"/>
          <p:cNvPicPr/>
          <p:nvPr/>
        </p:nvPicPr>
        <p:blipFill>
          <a:blip r:embed="rId1"/>
          <a:srcRect l="9175" t="11061" r="5386" b="16350"/>
          <a:stretch/>
        </p:blipFill>
        <p:spPr>
          <a:xfrm>
            <a:off x="971640" y="1700280"/>
            <a:ext cx="748800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11280" y="2374920"/>
            <a:ext cx="8297640" cy="407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3995640" y="44280"/>
            <a:ext cx="3657600" cy="2162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785880"/>
            <a:ext cx="662472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4248000"/>
            <a:ext cx="496260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645240" y="4221000"/>
            <a:ext cx="2463840" cy="220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66760" y="1484280"/>
            <a:ext cx="87692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Energ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tor de arranqu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uzin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las de aqueci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de Iluminação,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94156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093080" y="4635360"/>
            <a:ext cx="1603080" cy="166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sultado de imagem para buzina trator"/>
          <p:cNvPicPr/>
          <p:nvPr/>
        </p:nvPicPr>
        <p:blipFill>
          <a:blip r:embed="rId3"/>
          <a:stretch/>
        </p:blipFill>
        <p:spPr>
          <a:xfrm>
            <a:off x="684360" y="4221000"/>
            <a:ext cx="2076480" cy="207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sultado de imagem para velas de aquecimento trator"/>
          <p:cNvPicPr/>
          <p:nvPr/>
        </p:nvPicPr>
        <p:blipFill>
          <a:blip r:embed="rId4"/>
          <a:stretch/>
        </p:blipFill>
        <p:spPr>
          <a:xfrm>
            <a:off x="3708360" y="4902120"/>
            <a:ext cx="238140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5360" y="2997360"/>
            <a:ext cx="8944200" cy="36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276720" y="-2700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42976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2:58:30Z</dcterms:modified>
  <cp:revision>407</cp:revision>
  <dc:subject/>
  <dc:title>Slide 1</dc:title>
</cp:coreProperties>
</file>