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9D4B-58F1-4539-B556-CC6A14CA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CDA3-9E11-4736-BEEC-D43D2344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E014-AA1F-4634-95B1-CDE007D1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C57-98DE-4B00-B878-F5494C9C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C16-32DA-4B57-B1A0-A378F5DA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788-3BD7-4309-B436-F23BE98C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803-FCE2-47B4-9BA2-1FDB431C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5DC9-81F4-4FCF-B842-813B67D2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DBD7-C581-46FA-90B3-73F30808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06F-BA47-4376-8EE7-ED19AE6B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C032-2C4F-44FC-8A3B-C500EB50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610-1DF3-4943-BFA9-12868BF3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A08B-913C-47A8-AD88-79C7BDD14BF8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CABINE DE SEGURANÇ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C:\FOTOS_SCANIZADAS\MAQUINAS E ALFAIAS\Tractor\Cabine de segurança.jpg"/>
          <p:cNvPicPr/>
          <p:nvPr/>
        </p:nvPicPr>
        <p:blipFill>
          <a:blip r:embed="rId1"/>
          <a:stretch/>
        </p:blipFill>
        <p:spPr>
          <a:xfrm>
            <a:off x="457200" y="1447920"/>
            <a:ext cx="80773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C:\FOTOS_SCANIZADAS\MAQUINAS E ALFAIAS\Tractor\Tractor de 4 rodas motrizes desiguais.jpg"/>
          <p:cNvPicPr/>
          <p:nvPr/>
        </p:nvPicPr>
        <p:blipFill>
          <a:blip r:embed="rId1"/>
          <a:stretch/>
        </p:blipFill>
        <p:spPr>
          <a:xfrm>
            <a:off x="533520" y="838080"/>
            <a:ext cx="792468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arcador de Posição da Imagem Online 4" descr=""/>
          <p:cNvPicPr/>
          <p:nvPr/>
        </p:nvPicPr>
        <p:blipFill>
          <a:blip r:embed="rId1"/>
          <a:stretch/>
        </p:blipFill>
        <p:spPr>
          <a:xfrm>
            <a:off x="1403280" y="609480"/>
            <a:ext cx="6015240" cy="5794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C:\FOTOS_SCANIZADAS\MAQUINAS E ALFAIAS\Tractor\Tractor de 4 rodas motrizes iguais.jpg"/>
          <p:cNvPicPr/>
          <p:nvPr/>
        </p:nvPicPr>
        <p:blipFill>
          <a:blip r:embed="rId1"/>
          <a:stretch/>
        </p:blipFill>
        <p:spPr>
          <a:xfrm>
            <a:off x="990720" y="304920"/>
            <a:ext cx="723888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TRACTOR DE RASTOS (LAGARTAS OU ESTEIR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C:\FOTOS_SCANIZADAS\MAQUINAS E ALFAIAS\Tractor\Tractor de lagartas.jpg"/>
          <p:cNvPicPr/>
          <p:nvPr/>
        </p:nvPicPr>
        <p:blipFill>
          <a:blip r:embed="rId1"/>
          <a:stretch/>
        </p:blipFill>
        <p:spPr>
          <a:xfrm>
            <a:off x="457200" y="2057400"/>
            <a:ext cx="73152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C:\FOTOS_SCANIZADAS\MAQUINAS E ALFAIAS\Tractor\Tractor de rastos_pormenor.jpg"/>
          <p:cNvPicPr/>
          <p:nvPr/>
        </p:nvPicPr>
        <p:blipFill>
          <a:blip r:embed="rId1"/>
          <a:stretch/>
        </p:blipFill>
        <p:spPr>
          <a:xfrm>
            <a:off x="1447920" y="228600"/>
            <a:ext cx="5913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imes New Roman"/>
              </a:rPr>
              <a:t>TRACTOR DE RODAS GÉM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C:\FOTOS_SCANIZADAS\MAQUINAS E ALFAIAS\Tractor\Tractor de rodas gemeas.jpg"/>
          <p:cNvPicPr/>
          <p:nvPr/>
        </p:nvPicPr>
        <p:blipFill>
          <a:blip r:embed="rId1"/>
          <a:stretch/>
        </p:blipFill>
        <p:spPr>
          <a:xfrm>
            <a:off x="1447920" y="1447920"/>
            <a:ext cx="609588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TRACTOR ESTRE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C:\FOTOS_SCANIZADAS\MAQUINAS E ALFAIAS\Tractor\Tractor estreito.jpg"/>
          <p:cNvPicPr/>
          <p:nvPr/>
        </p:nvPicPr>
        <p:blipFill>
          <a:blip r:embed="rId1"/>
          <a:stretch/>
        </p:blipFill>
        <p:spPr>
          <a:xfrm>
            <a:off x="1752480" y="1295280"/>
            <a:ext cx="533412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TRACTOR FLORES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C:\FOTOS_SCANIZADAS\MAQUINAS E ALFAIAS\Tractor\Tractor florestal.jpg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TRACTOR PERN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C:\FOTOS_SCANIZADAS\MAQUINAS E ALFAIAS\Tractor\Tractor pernalta.jpg"/>
          <p:cNvPicPr/>
          <p:nvPr/>
        </p:nvPicPr>
        <p:blipFill>
          <a:blip r:embed="rId1"/>
          <a:stretch/>
        </p:blipFill>
        <p:spPr>
          <a:xfrm>
            <a:off x="990720" y="1523880"/>
            <a:ext cx="73152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FORMAÇÃO PROFISSIONAL\Imagens de Apoio\Cores\Tractor\Constituição.jpg"/>
          <p:cNvPicPr/>
          <p:nvPr/>
        </p:nvPicPr>
        <p:blipFill>
          <a:blip r:embed="rId1"/>
          <a:stretch/>
        </p:blipFill>
        <p:spPr>
          <a:xfrm>
            <a:off x="304920" y="228600"/>
            <a:ext cx="862488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ARCO DE SEGURANÇA OU PÓR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C:\FOTOS_SCANIZADAS\MAQUINAS E ALFAIAS\Tractor\Arco de segurança tipo pórtico.jpg"/>
          <p:cNvPicPr/>
          <p:nvPr/>
        </p:nvPicPr>
        <p:blipFill>
          <a:blip r:embed="rId1"/>
          <a:stretch/>
        </p:blipFill>
        <p:spPr>
          <a:xfrm>
            <a:off x="838080" y="1523880"/>
            <a:ext cx="678204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FORMAÇÃO PROFISSIONAL\Imagens de Apoio\Cores\Tractor\Utiização.jpg"/>
          <p:cNvPicPr/>
          <p:nvPr/>
        </p:nvPicPr>
        <p:blipFill>
          <a:blip r:embed="rId1"/>
          <a:stretch/>
        </p:blipFill>
        <p:spPr>
          <a:xfrm>
            <a:off x="228600" y="457200"/>
            <a:ext cx="83818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FORMAÇÃO PROFISSIONAL\Imagens de Apoio\Cores\Tractor\Utiização1.jpg"/>
          <p:cNvPicPr/>
          <p:nvPr/>
        </p:nvPicPr>
        <p:blipFill>
          <a:blip r:embed="rId1"/>
          <a:stretch/>
        </p:blipFill>
        <p:spPr>
          <a:xfrm>
            <a:off x="533520" y="533520"/>
            <a:ext cx="8324640" cy="60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FORMAÇÃO PROFISSIONAL\Imagens de Apoio\Cores\Tractor\Utiização2.jpg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61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OTOR DE ARRAN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C:\FOTOS_SCANIZADAS\MAQUINAS E ALFAIAS\Tractor\Motor de arranque.jpg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523880"/>
            <a:ext cx="54104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SISTEMA HIDRÁUL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C:\FOTOS_SCANIZADAS\MAQUINAS E ALFAIAS\Tractor\Sistema hidraulico.jpg"/>
          <p:cNvPicPr/>
          <p:nvPr/>
        </p:nvPicPr>
        <p:blipFill>
          <a:blip r:embed="rId1"/>
          <a:stretch/>
        </p:blipFill>
        <p:spPr>
          <a:xfrm>
            <a:off x="304920" y="1219320"/>
            <a:ext cx="83055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4 TEMPOS DO 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609480" y="1828800"/>
          <a:ext cx="7620120" cy="45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62012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QUADRO DE SEGURANÇ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C:\FOTOS_SCANIZADAS\MAQUINAS E ALFAIAS\Tractor\Quadro de Segurança.jpg"/>
          <p:cNvPicPr/>
          <p:nvPr/>
        </p:nvPicPr>
        <p:blipFill>
          <a:blip r:embed="rId1"/>
          <a:stretch/>
        </p:blipFill>
        <p:spPr>
          <a:xfrm>
            <a:off x="1600200" y="1600200"/>
            <a:ext cx="624852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ICROTRA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C:\FOTOS_SCANIZADAS\MAQUINAS E ALFAIAS\Tractor\Microtractor.jpg"/>
          <p:cNvPicPr/>
          <p:nvPr/>
        </p:nvPicPr>
        <p:blipFill>
          <a:blip r:embed="rId1"/>
          <a:stretch/>
        </p:blipFill>
        <p:spPr>
          <a:xfrm>
            <a:off x="1143000" y="1752480"/>
            <a:ext cx="655308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OTOCULTIV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C:\FOTOS_SCANIZADAS\MAQUINAS E ALFAIAS\Tractor\Motocultivador.jpg"/>
          <p:cNvPicPr/>
          <p:nvPr/>
        </p:nvPicPr>
        <p:blipFill>
          <a:blip r:embed="rId1"/>
          <a:stretch/>
        </p:blipFill>
        <p:spPr>
          <a:xfrm>
            <a:off x="1905120" y="1828800"/>
            <a:ext cx="510516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OTOENX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C:\FOTOS_SCANIZADAS\MAQUINAS E ALFAIAS\Tractor\Motoenxada.jpg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OTOGADANHEI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C:\FOTOS_SCANIZADAS\MAQUINAS E ALFAIAS\Tractor\Motogadanheira.jpg"/>
          <p:cNvPicPr/>
          <p:nvPr/>
        </p:nvPicPr>
        <p:blipFill>
          <a:blip r:embed="rId1"/>
          <a:stretch/>
        </p:blipFill>
        <p:spPr>
          <a:xfrm>
            <a:off x="1295280" y="1523880"/>
            <a:ext cx="647712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TRACTOR ARTICUL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C:\FOTOS_SCANIZADAS\MAQUINAS E ALFAIAS\Tractor\Tractor articulado.jpg"/>
          <p:cNvPicPr/>
          <p:nvPr/>
        </p:nvPicPr>
        <p:blipFill>
          <a:blip r:embed="rId1"/>
          <a:stretch/>
        </p:blipFill>
        <p:spPr>
          <a:xfrm>
            <a:off x="457200" y="1523880"/>
            <a:ext cx="792468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C:\FOTOS_SCANIZADAS\MAQUINAS E ALFAIAS\Tractor\Tractor de 2 rodas motrizes.jpg"/>
          <p:cNvPicPr/>
          <p:nvPr/>
        </p:nvPicPr>
        <p:blipFill>
          <a:blip r:embed="rId1"/>
          <a:stretch/>
        </p:blipFill>
        <p:spPr>
          <a:xfrm>
            <a:off x="1219320" y="762120"/>
            <a:ext cx="678168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7:27:38Z</dcterms:created>
  <dc:creator>DRARO</dc:creator>
  <dc:description/>
  <dc:language>en-US</dc:language>
  <cp:lastModifiedBy>Vitor Miguel Figueiredo</cp:lastModifiedBy>
  <cp:lastPrinted>2000-12-02T11:36:32Z</cp:lastPrinted>
  <dcterms:modified xsi:type="dcterms:W3CDTF">2017-03-02T11:36:55Z</dcterms:modified>
  <cp:revision>7</cp:revision>
  <dc:subject/>
  <dc:title>ARCO DE SEGURANÇA OU PÓRTICO</dc:title>
</cp:coreProperties>
</file>