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DFD0A-FA00-4F5E-8C2F-D594D1A9ACE5}" type="slidenum"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194A4-F3C1-4C2C-A637-D930B90507E1}" type="slidenum">
              <a:rPr b="0" lang="en-US" sz="13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4B6BA-63EB-4995-9323-331D8C3BA549}" type="slidenum">
              <a:rPr b="0" lang="pt-P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5E328-2D7B-4A1A-B6D8-1B0C8F05F662}" type="slidenum">
              <a:rPr b="0" lang="pt-P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B4186-1F95-4DD6-AC01-395C30DAA8C1}" type="slidenum">
              <a:rPr b="0" lang="pt-P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C2EE9-ACB2-4335-A09C-D102BA806658}" type="slidenum">
              <a:rPr b="0" lang="pt-P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360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36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38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360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36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5EBF-67A2-4D20-816F-A0B39690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6308-EF27-4AED-8AFB-09B5B1CF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7587-D4C6-42A5-AEBD-D2A0359E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6998-2E79-46D6-911F-5D6251D2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94E7-624C-4230-A88B-946F5EF7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13880" y="112500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EB82-43FF-441B-B113-01B2881A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8DF0-3F63-4B40-B960-00487D8C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6229-E0EC-4EA5-BF5D-E977561A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F0B2-9609-4B90-91C2-96C93333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0248-DC66-4D6D-911C-0E836950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309E-E955-4499-8C76-08BFB0A8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360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36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138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360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36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E3B6-4E9D-48BD-99FD-AF6FB531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476E-8E2F-4103-976A-96F7D14F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42D5-A299-4644-A34E-80BA3FC5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AA24-9F15-43BD-B370-92CB2415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01C9-BBCE-4A8E-AD28-5C5D7544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D6F7-3320-4B07-8CAD-909EB9A6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13880" y="112500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FA2E-A3BA-4776-BD13-65049B37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7FE7-2FFC-435D-87C2-E4E4FB91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D4A5-0B2C-407A-A94D-A2717735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F3A5-C32C-43BE-AE2C-4B23CD85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C886-5023-48BA-8A7D-715EE795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472B-E664-4074-B72A-A4B5BB1A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1360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136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38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1360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136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AFFD-3E96-499D-8A4D-DCCAC8A8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3880" y="112500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03093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" name="Text Box 30"/>
          <p:cNvSpPr/>
          <p:nvPr/>
        </p:nvSpPr>
        <p:spPr>
          <a:xfrm>
            <a:off x="6227640" y="6510240"/>
            <a:ext cx="27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800" spc="-1" strike="noStrike">
                <a:solidFill>
                  <a:srgbClr val="404040"/>
                </a:solidFill>
                <a:latin typeface="Arial"/>
              </a:rPr>
              <a:t>Vítor Figueiredo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Conexão recta 4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309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" name="Imagem 1" descr="logoesav"/>
          <p:cNvPicPr/>
          <p:nvPr/>
        </p:nvPicPr>
        <p:blipFill>
          <a:blip r:embed="rId2"/>
          <a:stretch/>
        </p:blipFill>
        <p:spPr>
          <a:xfrm>
            <a:off x="179280" y="115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Retângulo 2"/>
          <p:cNvSpPr/>
          <p:nvPr/>
        </p:nvSpPr>
        <p:spPr>
          <a:xfrm>
            <a:off x="954360" y="473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00"/>
                </a:solidFill>
                <a:latin typeface="Verdana"/>
                <a:ea typeface="Times New Roman"/>
              </a:rPr>
              <a:t>IPV-Escola Superior Agrár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0"/>
          <p:cNvSpPr/>
          <p:nvPr/>
        </p:nvSpPr>
        <p:spPr>
          <a:xfrm>
            <a:off x="6227640" y="6510240"/>
            <a:ext cx="27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800" spc="-1" strike="noStrike">
                <a:solidFill>
                  <a:srgbClr val="404040"/>
                </a:solidFill>
                <a:latin typeface="Arial"/>
              </a:rPr>
              <a:t>Vítor Figueiredo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Conexão recta 4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309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" name="Imagem 1" descr="logoesav"/>
          <p:cNvPicPr/>
          <p:nvPr/>
        </p:nvPicPr>
        <p:blipFill>
          <a:blip r:embed="rId2"/>
          <a:stretch/>
        </p:blipFill>
        <p:spPr>
          <a:xfrm>
            <a:off x="179280" y="115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45" name="Retângulo 2"/>
          <p:cNvSpPr/>
          <p:nvPr/>
        </p:nvSpPr>
        <p:spPr>
          <a:xfrm>
            <a:off x="954360" y="473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00"/>
                </a:solidFill>
                <a:latin typeface="Verdana"/>
                <a:ea typeface="Times New Roman"/>
              </a:rPr>
              <a:t>IPV-Escola Superior Agrár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03093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0E82-21D9-40C3-9ADE-2A1386AEFE58}" type="slidenum">
              <a:rPr b="0" lang="pt-PT" sz="18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0"/>
          <p:cNvSpPr/>
          <p:nvPr/>
        </p:nvSpPr>
        <p:spPr>
          <a:xfrm>
            <a:off x="6227640" y="6510240"/>
            <a:ext cx="27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800" spc="-1" strike="noStrike">
                <a:solidFill>
                  <a:srgbClr val="404040"/>
                </a:solidFill>
                <a:latin typeface="Arial"/>
              </a:rPr>
              <a:t>Vítor Figueiredo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Conexão recta 4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309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9" name="Imagem 1" descr="logoesav"/>
          <p:cNvPicPr/>
          <p:nvPr/>
        </p:nvPicPr>
        <p:blipFill>
          <a:blip r:embed="rId2"/>
          <a:stretch/>
        </p:blipFill>
        <p:spPr>
          <a:xfrm>
            <a:off x="179280" y="115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90" name="Retângulo 2"/>
          <p:cNvSpPr/>
          <p:nvPr/>
        </p:nvSpPr>
        <p:spPr>
          <a:xfrm>
            <a:off x="954360" y="473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00"/>
                </a:solidFill>
                <a:latin typeface="Verdana"/>
                <a:ea typeface="Times New Roman"/>
              </a:rPr>
              <a:t>IPV-Escola Superior Agrár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03093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53E7-447B-495B-B2B7-BF44A930695A}" type="slidenum">
              <a:rPr b="0" lang="pt-PT" sz="18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51672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30937"/>
                </a:solidFill>
                <a:latin typeface="Arial"/>
              </a:rPr>
              <a:t>Lastragem e pneus</a:t>
            </a:r>
            <a:endParaRPr b="1" lang="en-US" sz="4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3573360"/>
            <a:ext cx="4870440" cy="23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Objecto 1"/>
          <p:cNvGraphicFramePr/>
          <p:nvPr/>
        </p:nvGraphicFramePr>
        <p:xfrm>
          <a:off x="6516720" y="3422520"/>
          <a:ext cx="1876320" cy="28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Objecto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16720" y="3422520"/>
                    <a:ext cx="187632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2438280" y="1600200"/>
            <a:ext cx="5410440" cy="36576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808080"/>
                </a:solidFill>
                <a:latin typeface="Lucida Sans Unicode"/>
              </a:rPr>
              <a:t>VAMOS CONHECER UM PNEU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VEJAMOS UM PNEU EM CORTE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Banda de rolament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Lonas ou telas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Talões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Bojo ou flanc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5229360" y="1981080"/>
          <a:ext cx="2646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9360" y="1981080"/>
                    <a:ext cx="2646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88840" y="836640"/>
            <a:ext cx="7715520" cy="14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OS PNEUS PODEM CLASSIFICAR-SE PELA SUA ESTRUTURA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PNEU RADIAL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PNEU DIAGONAL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4284720" y="2276640"/>
            <a:ext cx="2101680" cy="31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Objecto 1"/>
          <p:cNvGraphicFramePr/>
          <p:nvPr/>
        </p:nvGraphicFramePr>
        <p:xfrm>
          <a:off x="6948360" y="2421000"/>
          <a:ext cx="2062440" cy="31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o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2421000"/>
                    <a:ext cx="2062440" cy="31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Pneu Diagonal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 BANDA DE ROLAMENTO ESTÁ SOLIDÁRIA COM OS FLANCOS,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 </a:t>
            </a:r>
            <a:r>
              <a:rPr b="0" i="1" lang="pt-PT" sz="2800" spc="-1" strike="noStrike">
                <a:solidFill>
                  <a:srgbClr val="030937"/>
                </a:solidFill>
                <a:latin typeface="Swis721 BdOul BT"/>
              </a:rPr>
              <a:t>DAÍ RESULTA: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5189400" y="1981080"/>
            <a:ext cx="272736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Pneu Diagonal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Fricção com o sol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Desgaste mais rápid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Menor aderência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Consumo de combustível mais elevad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5189400" y="1981080"/>
            <a:ext cx="272736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Pneu Radial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s flexões não são transmitidas à banda de rolament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30937"/>
              </a:buClr>
              <a:buFont typeface="Swis721 BdOul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30937"/>
                </a:solidFill>
                <a:latin typeface="Swis721 BdOul BT"/>
              </a:rPr>
              <a:t>DAÍ RESULTA: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graphicFrame>
        <p:nvGraphicFramePr>
          <p:cNvPr id="184" name="Object 4"/>
          <p:cNvGraphicFramePr/>
          <p:nvPr/>
        </p:nvGraphicFramePr>
        <p:xfrm>
          <a:off x="5214960" y="1981080"/>
          <a:ext cx="2676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4960" y="1981080"/>
                    <a:ext cx="2676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Pneu Radial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Diminui a compactação do sol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Reduz a patinagem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umenta a produtividade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Diminui o consum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Melhora o conforto e a flexibilidade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5214960" y="1981080"/>
          <a:ext cx="2676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4960" y="1981080"/>
                    <a:ext cx="2676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NO FLANCO DO PNEU, ENCONTRAMOS ALGUNS NÚMEROS E LETRAS QUE IDENTIFICAM AS MEDIDAS DE UM PNEU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685800" y="3027240"/>
            <a:ext cx="3809880" cy="20210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685800" y="77292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MEDIDAS DE UM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MEDIDAS DE UM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O Primeiro número  que encontramos identifica a largura total do pneu (em mms ou polegadas)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 rot="19832400">
            <a:off x="990720" y="388584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190760" cy="3938760"/>
          </a:xfrm>
          <a:prstGeom prst="rect">
            <a:avLst/>
          </a:prstGeom>
          <a:ln w="0">
            <a:noFill/>
          </a:ln>
        </p:spPr>
      </p:pic>
      <p:sp>
        <p:nvSpPr>
          <p:cNvPr id="197" name="Oval 6"/>
          <p:cNvSpPr/>
          <p:nvPr/>
        </p:nvSpPr>
        <p:spPr>
          <a:xfrm rot="978600">
            <a:off x="1904760" y="4648320"/>
            <a:ext cx="30456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Line 7"/>
          <p:cNvSpPr/>
          <p:nvPr/>
        </p:nvSpPr>
        <p:spPr>
          <a:xfrm flipH="1" flipV="1">
            <a:off x="2437920" y="45716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 thruBlk="true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7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O 2º número identifica a série do pneu, ou seja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 relação que existe entre a altura do flanco e a largura total do pneu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809880" cy="357984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 rot="912600">
            <a:off x="1904760" y="4724280"/>
            <a:ext cx="304560" cy="114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Line 5"/>
          <p:cNvSpPr/>
          <p:nvPr/>
        </p:nvSpPr>
        <p:spPr>
          <a:xfrm flipH="1" flipV="1">
            <a:off x="2666880" y="43430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EDIDAS DE UM PNEU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zoom dir="in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Lastragem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9640" y="1988640"/>
            <a:ext cx="8454960" cy="35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Consiste na adição de peso ao tractor com dois objetivos: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- </a:t>
            </a:r>
            <a:r>
              <a:rPr b="1" lang="pt-PT" sz="2000" spc="-1" strike="noStrike">
                <a:solidFill>
                  <a:srgbClr val="030937"/>
                </a:solidFill>
                <a:latin typeface="Arial"/>
              </a:rPr>
              <a:t>Possibilitar a melhoria da aderência ao solo;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- </a:t>
            </a:r>
            <a:r>
              <a:rPr b="1" lang="pt-PT" sz="2000" spc="-1" strike="noStrike">
                <a:solidFill>
                  <a:srgbClr val="030937"/>
                </a:solidFill>
                <a:latin typeface="Arial"/>
              </a:rPr>
              <a:t>Permitir um melhor equilíbrio do tractor, facilitando assim a transferência de peso.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A lastragem pode ser feita pela colocação de pesos ou pela adição de água nas rodas traseiras do tractor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A colocação de pesos pode ser feita nas rodas do tractor, na parte dianteira e ainda no sistema de levantamento hidráulico traseir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O último nº identifica o diâmetro da jante (em polegadas)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685800" y="2247840"/>
            <a:ext cx="3809880" cy="3579840"/>
          </a:xfrm>
          <a:prstGeom prst="rect">
            <a:avLst/>
          </a:prstGeom>
          <a:ln w="0">
            <a:noFill/>
          </a:ln>
        </p:spPr>
      </p:pic>
      <p:sp>
        <p:nvSpPr>
          <p:cNvPr id="206" name="Oval 4"/>
          <p:cNvSpPr/>
          <p:nvPr/>
        </p:nvSpPr>
        <p:spPr>
          <a:xfrm rot="491400">
            <a:off x="1904760" y="4724280"/>
            <a:ext cx="380880" cy="114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Line 5"/>
          <p:cNvSpPr/>
          <p:nvPr/>
        </p:nvSpPr>
        <p:spPr>
          <a:xfrm flipH="1" flipV="1">
            <a:off x="2971440" y="40381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MEDIDAS DE UM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RESISTÊNCIA DO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É um dado importante, que está directamente ligado: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1- À velocidade máxima a que pode circular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2-À carga que pode suportar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RESISTÊNCIA DO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Também é possível conhecê-la nos números identificados no pneu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RESISTÊNCIA DO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 capacidade de carga é-nos dada por um número (146) que figura numa tabela universal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648320" y="3027240"/>
            <a:ext cx="3809880" cy="2230560"/>
          </a:xfrm>
          <a:prstGeom prst="rect">
            <a:avLst/>
          </a:prstGeom>
          <a:ln w="0">
            <a:noFill/>
          </a:ln>
        </p:spPr>
      </p:pic>
      <p:sp>
        <p:nvSpPr>
          <p:cNvPr id="216" name="Line 5"/>
          <p:cNvSpPr/>
          <p:nvPr/>
        </p:nvSpPr>
        <p:spPr>
          <a:xfrm>
            <a:off x="7238880" y="3809880"/>
            <a:ext cx="763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RESISTÊNCIA DO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 velocidade máxima a que deve rodar é identificada por uma letra conjugada com um nº (A 8)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95680" cy="2631960"/>
          </a:xfrm>
          <a:prstGeom prst="rect">
            <a:avLst/>
          </a:prstGeom>
          <a:ln w="0">
            <a:noFill/>
          </a:ln>
        </p:spPr>
      </p:pic>
      <p:sp>
        <p:nvSpPr>
          <p:cNvPr id="220" name="Line 5"/>
          <p:cNvSpPr/>
          <p:nvPr/>
        </p:nvSpPr>
        <p:spPr>
          <a:xfrm flipH="1">
            <a:off x="3733920" y="3581280"/>
            <a:ext cx="38088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RESISTÊNCIA DO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 resistência pode ainda aparecer no pneu identificado pelas letras </a:t>
            </a:r>
            <a:r>
              <a:rPr b="0" lang="pt-PT" sz="2800" spc="-1" strike="noStrike">
                <a:solidFill>
                  <a:srgbClr val="030937"/>
                </a:solidFill>
                <a:latin typeface="Futura XBlk BT"/>
              </a:rPr>
              <a:t>PR</a:t>
            </a: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 seguidas de um número que identifica o nº de camadas de lona do pneu (PR 8)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4572000" cy="2676240"/>
          </a:xfrm>
          <a:prstGeom prst="rect">
            <a:avLst/>
          </a:prstGeom>
          <a:ln w="0">
            <a:noFill/>
          </a:ln>
        </p:spPr>
      </p:pic>
      <p:sp>
        <p:nvSpPr>
          <p:cNvPr id="224" name="Oval 5"/>
          <p:cNvSpPr/>
          <p:nvPr/>
        </p:nvSpPr>
        <p:spPr>
          <a:xfrm>
            <a:off x="3352680" y="3505320"/>
            <a:ext cx="533520" cy="533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Text Box 6"/>
          <p:cNvSpPr/>
          <p:nvPr/>
        </p:nvSpPr>
        <p:spPr>
          <a:xfrm rot="2345400">
            <a:off x="3351600" y="365724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PR 8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276720" y="350532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657600" y="3962520"/>
            <a:ext cx="228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3048120" y="3276720"/>
            <a:ext cx="304560" cy="30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Line 10"/>
          <p:cNvSpPr/>
          <p:nvPr/>
        </p:nvSpPr>
        <p:spPr>
          <a:xfrm flipH="1">
            <a:off x="3733920" y="3505320"/>
            <a:ext cx="380880" cy="22860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Dúvidas?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Lastragem na frente do trator 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8254800" cy="3705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Lastragem na retaguarda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7996320" cy="3751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Lastragem nas rodas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1187280" y="2349360"/>
            <a:ext cx="6816960" cy="3687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Lastragem nas rodas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262080" y="1819440"/>
            <a:ext cx="8486640" cy="4116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30937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Script MT Bold"/>
              </a:rPr>
              <a:t>De nada serve ter muita potência no motor, se houver muita patinagem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30937"/>
              </a:buClr>
              <a:buFont typeface="Vinet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Vineta BT"/>
              </a:rPr>
              <a:t>Escolha o pneu cert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58" name="Picture 3" descr="D:\PFiles\MSOffice\Clipart\standard\stddir1\BD05175_.WMF"/>
          <p:cNvPicPr/>
          <p:nvPr/>
        </p:nvPicPr>
        <p:blipFill>
          <a:blip r:embed="rId1"/>
          <a:stretch/>
        </p:blipFill>
        <p:spPr>
          <a:xfrm>
            <a:off x="4648320" y="2301840"/>
            <a:ext cx="3809880" cy="347184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4"/>
          <p:cNvSpPr/>
          <p:nvPr/>
        </p:nvSpPr>
        <p:spPr>
          <a:xfrm>
            <a:off x="1523880" y="762120"/>
            <a:ext cx="6934320" cy="1295280"/>
          </a:xfrm>
          <a:prstGeom prst="wedgeEllipseCallout">
            <a:avLst>
              <a:gd name="adj1" fmla="val 2587"/>
              <a:gd name="adj2" fmla="val 2378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POTÊNCIA DO MOTOR TEM QUE SER TRANSMITIDA AO SOL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FUNÇÕES DO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uportar a carga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Transmitir as forças de aceleração e travagem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Dirigir o veículo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articipar na suspensão e no conforto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articipar na estabilidade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Transmitir informação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onsumir a menor energia possí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62" name="Picture 4" descr="D:\PFiles\MSOffice\Clipart\standard\stddir1\BD05175_.WMF"/>
          <p:cNvPicPr/>
          <p:nvPr/>
        </p:nvPicPr>
        <p:blipFill>
          <a:blip r:embed="rId1"/>
          <a:stretch/>
        </p:blipFill>
        <p:spPr>
          <a:xfrm>
            <a:off x="5486400" y="1981080"/>
            <a:ext cx="3200400" cy="2916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PNEUS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ARACTERIZAÇÃO DOS VÁRIOS TIPOS DE PNEUS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MEDIDAS DOS PNEUS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RESISTÊNCIA DE UM PNEU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2:24:42Z</dcterms:created>
  <dc:creator>Vítor Figueiredo, Eng.</dc:creator>
  <dc:description/>
  <dc:language>en-US</dc:language>
  <cp:lastModifiedBy>Vitor Miguel Figueiredo</cp:lastModifiedBy>
  <cp:lastPrinted>2017-03-20T14:39:16Z</cp:lastPrinted>
  <dcterms:modified xsi:type="dcterms:W3CDTF">2017-03-20T14:39:43Z</dcterms:modified>
  <cp:revision>374</cp:revision>
  <dc:subject/>
  <dc:title>Slide 1</dc:title>
</cp:coreProperties>
</file>