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52C7-AD7F-456A-AFE6-11AFBDECCD3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BF5-52BE-4B77-A366-54F3FEE8BA5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57D-F77E-498B-8BCC-35062D494CB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8419-57D6-4836-A0A4-5810CE0AFD0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A91-3E6A-4746-841D-DEEF886305C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EC2-203D-403D-B128-90F95A5E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73F-3328-4B3F-8501-9D3D884D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D8F-0B28-4373-84CE-E178A23F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08B-1DB7-4428-B7E2-4CBC2090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C1E-F3BE-4B2D-85CC-B84AAE6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8EE-161D-47F3-86B9-06A75CB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7F5-5F82-4FEA-A4C0-AE14D42D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C93-53F4-43CA-AE68-D66D4AB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AD4-B8C4-4C22-9F11-386D7B04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ABA-5AF9-486A-B037-77C9ACD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422-60EE-4328-B40D-FF637C4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197-4ACA-4DC7-AD4C-9CA78CA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30B-AFD8-4F2F-8A55-6CB4FA8CEC35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2286000"/>
            <a:ext cx="69343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N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 rot="20275200">
            <a:off x="296640" y="3082680"/>
            <a:ext cx="855000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FAÇA A ESCOLHA CORREC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 flexões não são transmitidas à 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a compact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Reduz 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umenta a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lhora o conforto e a 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2º número identifica a série do pneu, ou s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último nº identifica o diâmetro da jante (em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 um dado importante, que está directamente lig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1- À velocidade máxima a que pod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2-À carga que pode supor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ambém é possível conhecê-la nos números identificados no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capacidade de carga é-nos dada por um número (116) que figura numa tabela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00000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UNÇÕES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uportar a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as forças de aceleração e trav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irigir o ve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suspensão e no conf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sumir a menor energia pos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CARACTERIZAÇÃO DOS VÁRIOS TIPOS DE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MEDIDAS DOS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RESISTÊNCIA DE UM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Times New Roman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VEJAMOS UM PNEU EM C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onas ou t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Tal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ojo ou flan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OS PNEUS PODEM CLASSIFICAR-SE PELA SUA ESTRU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BANDA DE ROLAMENTO ESTÁ SOLIDÁRIA COM OS FLAN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ricção com 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gaste mai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or ad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umo de combustível mais ele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8:43Z</dcterms:modified>
  <cp:revision>5</cp:revision>
  <dc:subject/>
  <dc:title>ARCO DE SEGURANÇA OU PÓRTICO</dc:title>
</cp:coreProperties>
</file>