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36FD3-0D40-4F69-8FBF-0750DFBE830B}" type="slidenum"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74980-FEA2-40B6-810B-48514E7A3B4D}" type="slidenum">
              <a:rPr b="0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1413000"/>
            <a:ext cx="8569080" cy="43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30937"/>
                </a:solidFill>
                <a:latin typeface="Arial"/>
              </a:rPr>
              <a:t>CTESP Viticultura e Enologia</a:t>
            </a:r>
            <a:br>
              <a:rPr sz="3200"/>
            </a:br>
            <a:r>
              <a:rPr b="1" lang="pt-PT" sz="3200" spc="-1" strike="noStrike">
                <a:solidFill>
                  <a:srgbClr val="030937"/>
                </a:solidFill>
                <a:latin typeface="Arial"/>
              </a:rPr>
              <a:t>CTESP Agricultura Biológica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pt-PT" sz="2800" spc="-1" strike="noStrike">
                <a:solidFill>
                  <a:srgbClr val="030937"/>
                </a:solidFill>
                <a:latin typeface="Arial"/>
              </a:rPr>
              <a:t>Vítor Figueiredo</a:t>
            </a:r>
            <a:br>
              <a:rPr sz="2800"/>
            </a:br>
            <a:r>
              <a:rPr b="1" lang="pt-PT" sz="2800" spc="-1" strike="noStrike">
                <a:solidFill>
                  <a:srgbClr val="0000a4"/>
                </a:solidFill>
                <a:latin typeface="Arial"/>
              </a:rPr>
              <a:t>vfigueiredo@esav.ipv.pt – 962 349 887</a:t>
            </a:r>
            <a:br>
              <a:rPr sz="2800"/>
            </a:br>
            <a:br>
              <a:rPr sz="2800"/>
            </a:br>
            <a:r>
              <a:rPr b="1" lang="pt-PT" sz="2000" spc="-1" strike="noStrike">
                <a:solidFill>
                  <a:srgbClr val="0000a4"/>
                </a:solidFill>
                <a:latin typeface="Arial"/>
              </a:rPr>
              <a:t>ESAV-IPV.</a:t>
            </a:r>
            <a:endParaRPr b="1" lang="en-US" sz="2000" spc="-1" strike="noStrike">
              <a:solidFill>
                <a:srgbClr val="030937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42920" y="2060640"/>
          <a:ext cx="7134120" cy="2281320"/>
        </p:xfrm>
        <a:graphic>
          <a:graphicData uri="http://schemas.openxmlformats.org/drawingml/2006/table">
            <a:tbl>
              <a:tblPr/>
              <a:tblGrid>
                <a:gridCol w="2116080"/>
                <a:gridCol w="5018040"/>
              </a:tblGrid>
              <a:tr h="9759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3300"/>
                          </a:solidFill>
                          <a:latin typeface="Lucida Sans Unicode"/>
                        </a:rPr>
                        <a:t>Unidade Curricula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áquinas e Equipa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ecanização da Vin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13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3300"/>
                          </a:solidFill>
                          <a:latin typeface="Lucida Sans Unicode"/>
                        </a:rPr>
                        <a:t>Créditos/horas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3300"/>
                          </a:solidFill>
                          <a:latin typeface="Lucida Sans Unicode"/>
                        </a:rPr>
                        <a:t>4 ECTS – 45 ho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404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º ano 2º semestre – 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mo se mede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 área de exploração agrícol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O encabeçament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 dimensão económic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 potência de um trator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10920" y="188640"/>
            <a:ext cx="83106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Unidades de medid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hp = 1,014 cv</a:t>
            </a: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 1 cv = 0,736 kW</a:t>
            </a: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 1 kW = 1,36 cv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cavalo vapor =» 0,73 Kw; 30 cv =» 22,06 Kw (potência)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hp = 1,014 cv 1 hp = 745 W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cv = 0,987 HP 1 W = 0,00134 HP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cv = 735,7 W 1 kW = 1,34 HP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W = 0,00136 cv 1 cv = 0,7355 (0,736) kW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kW = 1,3596 (1,36) cv 1 kW = 1000 W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hectare = 10.000 m2;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aguilhada = 540 m2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pipa = 550 litros (Douro); 500 litros (Pinhel);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almude = 20 litros (Ferreira a Nova); 25 l (Castendo; Bodiosa) ; 27 l (Tondela e Mangualde); 30 l (Rio de Moinhos) outras regiões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alqueire = 11 kg (Bodiosa); 11,50 kg (Ferreira a Nova); 12,5 kg a 13 kg (Moimenta e Aguiar da Beira)-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Rasa (metade do alqueire=6,5 kg, Vilar de Besteiros-Tondela).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Uma quarta de alqueire; Seromim (1/8 de alqueire).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arroba = 15 kg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bjetivos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68280"/>
            <a:ext cx="9020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nhecer a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constituição e funcionament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dos motores de combustão interna dos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tratores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agrícolas e sua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manutençã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nhecimentos necessários à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gestão, planeamento e manutenção de parques de máquinas agrícolas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presentar e descrever as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máquinas e equipamentos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utilizados na realização das principais operações culturais (p.e. na vinha) , assim como as suas principais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regulações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nteúdo programático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360" y="1125360"/>
            <a:ext cx="88218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Unidades motrizes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: Ciclos Diesel e Otto. Constituição geral. Transmissão, mecânica e hidráulica. Sistemas de direção e travagem. Sistemas de ligação com as alfaias. Equipamento elétrico do trator. Órgãos de locomoção. Tipos de tratores agrícol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Máquinas de mobilização sol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, de sementeira e de plantaçã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Máquinas de fertilização e de proteçã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das culturas. 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áquinas polivalente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áquinas de colheita/vindim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endimento das operações culturais e seleção de parques de máquin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Regulações e calibraçã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de equipamento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ndições de admissão a avaliação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915920"/>
            <a:ext cx="8820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 classificação final (≥ 10,0 valores) é obtida a partir das seguintes avaliações parciais: 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- Prova escrita teórico-prática = 60%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- Trabalho prático de dimensionamento e seleção de um parque de equipamentos = 40%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É condição necessária, para admissão a qualquer época de avaliação, a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presença em 2/3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das aulas práticas lecionad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Apresentaçã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valiação diagnóstica / Terminologia agrícol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6600" y="47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Algumas questões prévias.</a:t>
            </a: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 O que significa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96600" y="134136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AU-superfície agrícola útil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ulturas temporárias (ex.)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ulturas permanentes (ex.)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Baldi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N-cabeça normal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EAP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IP-Sistema de Identificação parcelar? IE (eis P1)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olígono de investiment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3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edido Únic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 que significa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4000" y="1484280"/>
            <a:ext cx="83055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omóide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unóide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ctiníde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olanáce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ireito da vinh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Um macronutriente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Um micronutriente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Um corretivo de acidez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H do sol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teção integrad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odo de Produção Biológic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9200" y="404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 que significa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280" y="1197000"/>
            <a:ext cx="8280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urrib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Lavour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olagem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Fresagem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Estado fenológic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nalizaçã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Boas práticas agrícolas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Boas práticas fitossanitárias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olarizaçã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ideraçã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astreabilidade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Globalgap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 que significa? 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09200" y="1700280"/>
            <a:ext cx="8280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IFAP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RAPC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Estação de Avisos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AP; Confagri; CNA; AJAP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DD; ADDLAP; ADICES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DER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DR2020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Jovem agricultor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duto fitofarmacêutic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itor Miguel Figueiredo</cp:lastModifiedBy>
  <cp:lastPrinted>2017-03-06T09:02:17Z</cp:lastPrinted>
  <dcterms:modified xsi:type="dcterms:W3CDTF">2017-03-09T18:29:30Z</dcterms:modified>
  <cp:revision>330</cp:revision>
  <dc:subject/>
  <dc:title>Slide 1</dc:title>
</cp:coreProperties>
</file>