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A5113-F35F-46E8-99A3-EDD7E2BBF775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BB0C7-99F2-494D-A7DE-D9BC00368E3B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4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6" descr="https://i2.wp.com/r19club.com/How-to/materiasistemaarrefecimento_arquivos/image001.gif?resize=400%2C330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2"/>
          <a:stretch/>
        </p:blipFill>
        <p:spPr>
          <a:xfrm>
            <a:off x="0" y="1233360"/>
            <a:ext cx="914400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s de Arrefeciment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rrefecer o motor, a única diferença que existe entre eles é a de o elemento que faz o arrefecimento num caso ser o líquido e no outro ser o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Líquid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358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0" name="Marcador de Posição de Conteúdo 4" descr=""/>
          <p:cNvPicPr/>
          <p:nvPr/>
        </p:nvPicPr>
        <p:blipFill>
          <a:blip r:embed="rId1"/>
          <a:stretch/>
        </p:blipFill>
        <p:spPr>
          <a:xfrm>
            <a:off x="5338800" y="4014720"/>
            <a:ext cx="38844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Imagem 3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56880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3440" y="1916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ubos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Bomba de águ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amisas de Arrefecimen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ermosta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ampão do 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Ventoinh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orreia da ventoinha.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5219640" y="1389240"/>
            <a:ext cx="342432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5691240" y="3421080"/>
            <a:ext cx="2016000" cy="1209600"/>
          </a:xfrm>
          <a:prstGeom prst="rect">
            <a:avLst/>
          </a:prstGeom>
          <a:ln w="0">
            <a:noFill/>
          </a:ln>
        </p:spPr>
      </p:pic>
      <p:sp>
        <p:nvSpPr>
          <p:cNvPr id="96" name="Seta: Para a Direita 8"/>
          <p:cNvSpPr/>
          <p:nvPr/>
        </p:nvSpPr>
        <p:spPr>
          <a:xfrm>
            <a:off x="2556000" y="2349360"/>
            <a:ext cx="2303280" cy="28764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97" name="Conexão: Ângulo Reto 10"/>
          <p:cNvCxnSpPr/>
          <p:nvPr/>
        </p:nvCxnSpPr>
        <p:spPr>
          <a:xfrm>
            <a:off x="2410920" y="2924280"/>
            <a:ext cx="3280680" cy="151344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9" name="Imagem 4" descr=""/>
          <p:cNvPicPr/>
          <p:nvPr/>
        </p:nvPicPr>
        <p:blipFill>
          <a:blip r:embed="rId1"/>
          <a:stretch/>
        </p:blipFill>
        <p:spPr>
          <a:xfrm>
            <a:off x="471600" y="1557360"/>
            <a:ext cx="83325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1" name="Imagem 2" descr=""/>
          <p:cNvPicPr/>
          <p:nvPr/>
        </p:nvPicPr>
        <p:blipFill>
          <a:blip r:embed="rId1"/>
          <a:stretch/>
        </p:blipFill>
        <p:spPr>
          <a:xfrm>
            <a:off x="511200" y="1725480"/>
            <a:ext cx="821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76899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835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responsável pela alimentação de ar ao motor. Este sistema tem como função fazer a purificação do ar e canaliza-lo até aos órgãos de admissão do motor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Pré - Filtr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Filtro do A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bo ou Condut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Colector de Admissã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rb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Intercoole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6" name="Imagem 4" descr=""/>
          <p:cNvPicPr/>
          <p:nvPr/>
        </p:nvPicPr>
        <p:blipFill>
          <a:blip r:embed="rId1"/>
          <a:stretch/>
        </p:blipFill>
        <p:spPr>
          <a:xfrm>
            <a:off x="468360" y="1708200"/>
            <a:ext cx="7900920" cy="366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3" descr=""/>
          <p:cNvPicPr/>
          <p:nvPr/>
        </p:nvPicPr>
        <p:blipFill>
          <a:blip r:embed="rId2"/>
          <a:stretch/>
        </p:blipFill>
        <p:spPr>
          <a:xfrm>
            <a:off x="468360" y="1754280"/>
            <a:ext cx="79232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1691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764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8" name="Marcador de Posição de Conteúdo 5" descr=""/>
          <p:cNvPicPr/>
          <p:nvPr/>
        </p:nvPicPr>
        <p:blipFill>
          <a:blip r:embed="rId1"/>
          <a:stretch/>
        </p:blipFill>
        <p:spPr>
          <a:xfrm>
            <a:off x="3851280" y="2241720"/>
            <a:ext cx="5079960" cy="286668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2605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uncionamento do sistema de arrefecimento a líquido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6" descr=""/>
          <p:cNvPicPr/>
          <p:nvPr/>
        </p:nvPicPr>
        <p:blipFill>
          <a:blip r:embed="rId2"/>
          <a:stretch/>
        </p:blipFill>
        <p:spPr>
          <a:xfrm>
            <a:off x="1908000" y="1690560"/>
            <a:ext cx="547704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8511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urbin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rreia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hapa guia ou blind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lhetas de Refriger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5" name="Imagem 2" descr=""/>
          <p:cNvPicPr/>
          <p:nvPr/>
        </p:nvPicPr>
        <p:blipFill>
          <a:blip r:embed="rId1"/>
          <a:stretch/>
        </p:blipFill>
        <p:spPr>
          <a:xfrm>
            <a:off x="4846680" y="2133720"/>
            <a:ext cx="394344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6" descr=""/>
          <p:cNvPicPr/>
          <p:nvPr/>
        </p:nvPicPr>
        <p:blipFill>
          <a:blip r:embed="rId2"/>
          <a:stretch/>
        </p:blipFill>
        <p:spPr>
          <a:xfrm>
            <a:off x="826920" y="1749600"/>
            <a:ext cx="7560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94800" cy="4415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"/>
          <p:cNvPicPr/>
          <p:nvPr/>
        </p:nvPicPr>
        <p:blipFill>
          <a:blip r:embed="rId2"/>
          <a:stretch/>
        </p:blipFill>
        <p:spPr>
          <a:xfrm>
            <a:off x="22320" y="1322280"/>
            <a:ext cx="909936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3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31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94708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2"/>
          <a:stretch/>
        </p:blipFill>
        <p:spPr>
          <a:xfrm>
            <a:off x="0" y="1363680"/>
            <a:ext cx="91440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376600"/>
            <a:ext cx="2200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iltro de seguranç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4" name="Imagem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"/>
          <p:cNvPicPr/>
          <p:nvPr/>
        </p:nvPicPr>
        <p:blipFill>
          <a:blip r:embed="rId2"/>
          <a:stretch/>
        </p:blipFill>
        <p:spPr>
          <a:xfrm>
            <a:off x="2340000" y="4546440"/>
            <a:ext cx="400680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"/>
          <p:cNvPicPr/>
          <p:nvPr/>
        </p:nvPicPr>
        <p:blipFill>
          <a:blip r:embed="rId2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"/>
          <p:cNvPicPr/>
          <p:nvPr/>
        </p:nvPicPr>
        <p:blipFill>
          <a:blip r:embed="rId2"/>
          <a:stretch/>
        </p:blipFill>
        <p:spPr>
          <a:xfrm>
            <a:off x="0" y="1420920"/>
            <a:ext cx="9144000" cy="401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55520" y="1373040"/>
            <a:ext cx="28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ircuito do turb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3" name="Imagem 3" descr=""/>
          <p:cNvPicPr/>
          <p:nvPr/>
        </p:nvPicPr>
        <p:blipFill>
          <a:blip r:embed="rId1"/>
          <a:stretch/>
        </p:blipFill>
        <p:spPr>
          <a:xfrm>
            <a:off x="25560" y="2268360"/>
            <a:ext cx="310968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Marcador de Posição de Conteúdo 2"/>
          <p:cNvSpPr/>
          <p:nvPr/>
        </p:nvSpPr>
        <p:spPr>
          <a:xfrm>
            <a:off x="5003640" y="1373040"/>
            <a:ext cx="3354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  <a:ea typeface="Arial"/>
              </a:rPr>
              <a:t>Intercoo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Imagem 5" descr=""/>
          <p:cNvPicPr/>
          <p:nvPr/>
        </p:nvPicPr>
        <p:blipFill>
          <a:blip r:embed="rId2"/>
          <a:stretch/>
        </p:blipFill>
        <p:spPr>
          <a:xfrm>
            <a:off x="4643280" y="2909880"/>
            <a:ext cx="436104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3:03:22Z</dcterms:modified>
  <cp:revision>417</cp:revision>
  <dc:subject/>
  <dc:title>Slide 1</dc:title>
</cp:coreProperties>
</file>