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C704-E6F0-4F58-BDF6-809A8034B17D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D7C8-BA08-44FB-A8C1-23526DA39B3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3E46-A32E-47BE-8F08-D6D834A4E87D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27EF-380E-4EF8-B164-B9C41227BED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DB38-FCE2-4622-8017-9842FA2DDAD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2BD-378D-4FB8-B8FD-97D0A7E5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F13-6366-4C99-8C5F-EA616E07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8F9-D4C9-49E1-BC13-FDDA49AE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FB3-71CB-4330-ACEA-1D95F2ED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502-AAD7-41EC-AC36-F3091673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067-8543-42BC-A378-9D55B4F7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31D-47AB-469A-84DE-C5D97F7C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CD7-0766-402E-B815-84176CF7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928-7B72-4770-A847-3BDA9F4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3D4-9A44-4116-8301-AB837FB4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6FB-9FDC-4BD7-ADAB-63B111E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C50-5E74-4FC8-98E7-6EEC8F67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6DB0-5933-4F25-A4E4-E4B62C7C36C7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143000" y="2286000"/>
            <a:ext cx="693432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NEUS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4"/>
          <p:cNvSpPr txBox="1"/>
          <p:nvPr/>
        </p:nvSpPr>
        <p:spPr>
          <a:xfrm rot="20275200">
            <a:off x="296640" y="3082680"/>
            <a:ext cx="8550000" cy="6904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FAÇA A ESCOLHA CORREC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s flexões não são transmitidas à banda de rol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BdOul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iminui a compactação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Reduz a patin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umenta a produtiv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iminui o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elhora o conforto e a flexi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O FLANCO DO PNEU, ENCONTRAMOS ALGUNS NÚMEROS E LETRAS QUE IDENTIFICAM AS MEDIDAS DE UM PN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85800" y="3027240"/>
            <a:ext cx="3809880" cy="2021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Primeiro número  que encontramos identifica a largura total do pneu (em mms ou polega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 rot="19832400">
            <a:off x="990720" y="38858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90760" cy="3938760"/>
          </a:xfrm>
          <a:prstGeom prst="rect">
            <a:avLst/>
          </a:prstGeom>
          <a:ln w="0">
            <a:noFill/>
          </a:ln>
        </p:spPr>
      </p:pic>
      <p:sp>
        <p:nvSpPr>
          <p:cNvPr id="87" name="Oval 6"/>
          <p:cNvSpPr/>
          <p:nvPr/>
        </p:nvSpPr>
        <p:spPr>
          <a:xfrm rot="978600">
            <a:off x="1904760" y="4648320"/>
            <a:ext cx="30456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 flipH="1" flipV="1">
            <a:off x="243792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2º número identifica a série do pneu, ou s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relação que existe entre a altura do flanco e a largura total do pn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91" name="Oval 4"/>
          <p:cNvSpPr/>
          <p:nvPr/>
        </p:nvSpPr>
        <p:spPr>
          <a:xfrm rot="912600">
            <a:off x="1904760" y="4724280"/>
            <a:ext cx="30456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 flipV="1">
            <a:off x="2666880" y="4343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último nº identifica o diâmetro da jante (em polega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97" name="Oval 4"/>
          <p:cNvSpPr/>
          <p:nvPr/>
        </p:nvSpPr>
        <p:spPr>
          <a:xfrm rot="491400">
            <a:off x="1904760" y="4724280"/>
            <a:ext cx="38088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 flipH="1" flipV="1">
            <a:off x="297144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É um dado importante, que está directamente lig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1- À velocidade máxima a que pode cir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2-À carga que pode supor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ambém é possível conhecê-la nos números identificados no pn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capacidade de carga é-nos dada por um número (116) que figura numa tabela uni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648320" y="3027240"/>
            <a:ext cx="3809880" cy="22305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7238880" y="3809880"/>
            <a:ext cx="763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velocidade máxima a que deve rodar é identificada por uma letra conjugada com um nº (A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95680" cy="2631960"/>
          </a:xfrm>
          <a:prstGeom prst="rect">
            <a:avLst/>
          </a:prstGeom>
          <a:ln w="0">
            <a:noFill/>
          </a:ln>
        </p:spPr>
      </p:pic>
      <p:sp>
        <p:nvSpPr>
          <p:cNvPr id="111" name="Line 5"/>
          <p:cNvSpPr/>
          <p:nvPr/>
        </p:nvSpPr>
        <p:spPr>
          <a:xfrm flipH="1">
            <a:off x="3733920" y="3581280"/>
            <a:ext cx="3808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Script MT Bold"/>
              </a:rPr>
              <a:t>De nada serve ter muita potência no motor, se houver muita patin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inet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ineta BT"/>
              </a:rPr>
              <a:t>Escolha o pneu c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4648320" y="2301840"/>
            <a:ext cx="3809880" cy="3471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1523880" y="762120"/>
            <a:ext cx="6934320" cy="1295280"/>
          </a:xfrm>
          <a:prstGeom prst="wedgeEllipseCallout">
            <a:avLst>
              <a:gd name="adj1" fmla="val 2587"/>
              <a:gd name="adj2" fmla="val 237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POTÊNCIA DO MOTOR TEM QUE SER TRANSMITIDA AO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resistência pode ainda aparecer no pneu identificado pelas letras </a:t>
            </a:r>
            <a:r>
              <a:rPr b="0" lang="pt-PT" sz="2800" spc="-1" strike="noStrike">
                <a:solidFill>
                  <a:srgbClr val="000000"/>
                </a:solidFill>
                <a:latin typeface="Futura XBlk BT"/>
              </a:rPr>
              <a:t>PR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seguidas de um número que identifica o nº de camadas de lona do pneu (PR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2676240"/>
          </a:xfrm>
          <a:prstGeom prst="rect">
            <a:avLst/>
          </a:prstGeom>
          <a:ln w="0">
            <a:noFill/>
          </a:ln>
        </p:spPr>
      </p:pic>
      <p:sp>
        <p:nvSpPr>
          <p:cNvPr id="115" name="Oval 5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 rot="2345400">
            <a:off x="3351600" y="36572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PR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276720" y="35053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657600" y="39625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3048120" y="3276720"/>
            <a:ext cx="30456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733920" y="3505320"/>
            <a:ext cx="380880" cy="2286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FUNÇÕES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Suportar a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ransmitir as forças de aceleração e trav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Dirigir o ve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ticipar na suspensão e no conf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ticipar na es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ransmitir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onsumir a menor energia poss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CARACTERIZAÇÃO DOS VÁRIOS TIPOS DE P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MEDIDAS DOS P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RESISTÊNCIA DE UM PN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2438280" y="1600200"/>
            <a:ext cx="5410440" cy="3657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808080"/>
                </a:solidFill>
                <a:latin typeface="Times New Roman"/>
              </a:rPr>
              <a:t>VAMOS CONHECER UM PN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VEJAMOS UM PNEU EM C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Banda de rol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Lonas ou t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Tal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Bojo ou flan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5229360" y="1981080"/>
          <a:ext cx="2646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9360" y="1981080"/>
                    <a:ext cx="2646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190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OS PNEUS PODEM CLASSIFICAR-SE PELA SUA ESTRU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BANDA DE ROLAMENTO ESTÁ SOLIDÁRIA COM OS FLANC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PT" sz="2800" spc="-1" strike="noStrike">
                <a:solidFill>
                  <a:srgbClr val="000000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Fricção com 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esgaste mai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enor ade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Consumo de combustível mais ele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7:27:38Z</dcterms:created>
  <dc:creator>DRARO</dc:creator>
  <dc:description/>
  <dc:language>en-US</dc:language>
  <cp:lastModifiedBy>Vitor Miguel Figueiredo</cp:lastModifiedBy>
  <cp:lastPrinted>2000-12-02T11:36:32Z</cp:lastPrinted>
  <dcterms:modified xsi:type="dcterms:W3CDTF">2017-03-02T11:38:43Z</dcterms:modified>
  <cp:revision>5</cp:revision>
  <dc:subject/>
  <dc:title>ARCO DE SEGURANÇA OU PÓRTICO</dc:title>
</cp:coreProperties>
</file>