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B6CDF-11D0-4FE0-8220-74474A8259DA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A2C2A-A553-4F12-98E4-57D3474DFAF0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2A502-7D8D-412C-A423-338BBD4DEEC9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157A9-E2F3-4B7B-8C88-9BBDD2BC2EEE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83F1B-6CDD-467E-9566-A782E5ED9CF6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8D27F-2B2C-4C41-884B-BA9A07AA4401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59B-A86B-4843-A749-EFDA9A96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4CE-F161-44C6-AF1D-41CBA8AF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B5B-62DB-4B7C-ADFD-225B673C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20F-E110-4F81-9DA8-AD27A756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B0F-0212-4D26-9AF0-F76F1E26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C75-FCB4-43C0-8077-1B474DAA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50E-53A0-44AB-8826-B39ECAC7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5C5-61E0-415A-9438-7311C19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7CD-ECFF-40A8-8098-A8FBE0F1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03B-A86E-4DC9-8200-C65F4A71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390-212D-46C1-9C60-FCC9B447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983-ED3C-4B21-AD9D-A4FC41C4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04A9-0643-4F42-BF57-AA4CF9C3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EA43-87E8-47AF-A228-E33380EB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FAC1-F90B-4DF2-82A6-B2D75D5C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E3F3-A02D-4562-9FB6-C3A47BC3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E4EE-DAE6-46FA-867C-9DE9FFE5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779E-7E73-49FB-A8D5-F6E94929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E0D4-80A0-4FD1-9F4B-AB5DF21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0E65-219A-428A-BB4D-48E744D3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5258-8499-4999-BFB5-66BF1939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4D78-9CAD-421B-BCEF-BAC7D5DB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286D-FF5F-43C8-817F-745DA43B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79A4-FDEE-43F0-B69B-7CAFE7FE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4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2E6D-0556-4610-A020-9AB7BC3AA5EE}" type="slidenum">
              <a:rPr b="0" lang="pt-PT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9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3535-33AA-489A-87E5-E4CE5D1A1B14}" type="slidenum">
              <a:rPr b="0" lang="pt-PT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516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30937"/>
                </a:solidFill>
                <a:latin typeface="Arial"/>
              </a:rPr>
              <a:t>Lastragem e pneus</a:t>
            </a:r>
            <a:endParaRPr b="1" lang="en-US" sz="4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3573360"/>
            <a:ext cx="487044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o 1"/>
          <p:cNvGraphicFramePr/>
          <p:nvPr/>
        </p:nvGraphicFramePr>
        <p:xfrm>
          <a:off x="6516720" y="3422520"/>
          <a:ext cx="1876320" cy="28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Objec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3422520"/>
                    <a:ext cx="187632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2438280" y="1600200"/>
            <a:ext cx="5410440" cy="3657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Lucida Sans Unicode"/>
              </a:rPr>
              <a:t>VAMOS CONHECER UM PNEU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VEJAMOS UM PNEU EM CORT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Banda de rolamen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Lonas ou telas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Talões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Bojo ou flanc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5229360" y="1981080"/>
          <a:ext cx="2646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1981080"/>
                    <a:ext cx="264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88840" y="836640"/>
            <a:ext cx="7715520" cy="14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S PNEUS PODEM CLASSIFICAR-SE PELA SUA ESTRUTURA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2101680" cy="31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o 1"/>
          <p:cNvGraphicFramePr/>
          <p:nvPr/>
        </p:nvGraphicFramePr>
        <p:xfrm>
          <a:off x="6948360" y="2421000"/>
          <a:ext cx="2062440" cy="31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o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421000"/>
                    <a:ext cx="20624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BANDA DE ROLAMENTO ESTÁ SOLIDÁRIA COM OS FLANCOS,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i="1" lang="pt-PT" sz="2800" spc="-1" strike="noStrike">
                <a:solidFill>
                  <a:srgbClr val="030937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Fricção com o sol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esgaste mais rápid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Menor aderência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Consumo de combustível mais elevad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s flexões não são transmitidas à banda de rolamen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Swis721 BdOul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30937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iminui a compactação do sol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Reduz a patinagem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umenta a produtividade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iminui o consum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Melhora o conforto e a flexibilidade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NO FLANCO DO PNEU, ENCONTRAMOS ALGUNS NÚMEROS E LETRAS QUE IDENTIFICAM AS MEDIDAS DE UM PNEU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685800" y="3027240"/>
            <a:ext cx="3809880" cy="2021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Primeiro número  que encontramos identifica a largura total do pneu (em mms ou polegadas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 rot="19832400">
            <a:off x="990720" y="38858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938760"/>
          </a:xfrm>
          <a:prstGeom prst="rect">
            <a:avLst/>
          </a:prstGeom>
          <a:ln w="0">
            <a:noFill/>
          </a:ln>
        </p:spPr>
      </p:pic>
      <p:sp>
        <p:nvSpPr>
          <p:cNvPr id="197" name="Oval 6"/>
          <p:cNvSpPr/>
          <p:nvPr/>
        </p:nvSpPr>
        <p:spPr>
          <a:xfrm rot="978600">
            <a:off x="1904760" y="4648320"/>
            <a:ext cx="3045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Line 7"/>
          <p:cNvSpPr/>
          <p:nvPr/>
        </p:nvSpPr>
        <p:spPr>
          <a:xfrm flipH="1" flipV="1">
            <a:off x="24379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2º número identifica a série do pneu, ou seja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relação que existe entre a altura do flanco e a largura total do pneu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 rot="912600">
            <a:off x="1904760" y="4724280"/>
            <a:ext cx="3045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Line 5"/>
          <p:cNvSpPr/>
          <p:nvPr/>
        </p:nvSpPr>
        <p:spPr>
          <a:xfrm flipH="1" flipV="1">
            <a:off x="26668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988640"/>
            <a:ext cx="845496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Consiste na adição de peso ao tractor com dois objetivo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-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Possibilitar a melhoria da aderência ao solo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-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Permitir um melhor equilíbrio do tractor, facilitando assim a transferência de peso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 lastragem pode ser feita pela colocação de pesos ou pela adição de água nas rodas traseiras d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 colocação de pesos pode ser feita nas rodas do tractor, na parte dianteira e ainda no sistema de levantamento hidráulico traseir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último nº identifica o diâmetro da jante (em polegadas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206" name="Oval 4"/>
          <p:cNvSpPr/>
          <p:nvPr/>
        </p:nvSpPr>
        <p:spPr>
          <a:xfrm rot="491400">
            <a:off x="1904760" y="4724280"/>
            <a:ext cx="3808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Line 5"/>
          <p:cNvSpPr/>
          <p:nvPr/>
        </p:nvSpPr>
        <p:spPr>
          <a:xfrm flipH="1" flipV="1">
            <a:off x="297144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É um dado importante, que está directamente ligado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1- À velocidade máxima a que pode circul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2-À carga que pode suport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ambém é possível conhecê-la nos números identificados no pneu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capacidade de carga é-nos dada por um número (146) que figura numa tabela univers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230560"/>
          </a:xfrm>
          <a:prstGeom prst="rect">
            <a:avLst/>
          </a:prstGeom>
          <a:ln w="0">
            <a:noFill/>
          </a:ln>
        </p:spPr>
      </p:pic>
      <p:sp>
        <p:nvSpPr>
          <p:cNvPr id="216" name="Line 5"/>
          <p:cNvSpPr/>
          <p:nvPr/>
        </p:nvSpPr>
        <p:spPr>
          <a:xfrm>
            <a:off x="7238880" y="3809880"/>
            <a:ext cx="763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velocidade máxima a que deve rodar é identificada por uma letra conjugada com um nº (A 8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631960"/>
          </a:xfrm>
          <a:prstGeom prst="rect">
            <a:avLst/>
          </a:prstGeom>
          <a:ln w="0">
            <a:noFill/>
          </a:ln>
        </p:spPr>
      </p:pic>
      <p:sp>
        <p:nvSpPr>
          <p:cNvPr id="220" name="Line 5"/>
          <p:cNvSpPr/>
          <p:nvPr/>
        </p:nvSpPr>
        <p:spPr>
          <a:xfrm flipH="1">
            <a:off x="3733920" y="35812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resistência pode ainda aparecer no pneu identificado pelas letras </a:t>
            </a:r>
            <a:r>
              <a:rPr b="0" lang="pt-PT" sz="2800" spc="-1" strike="noStrike">
                <a:solidFill>
                  <a:srgbClr val="030937"/>
                </a:solidFill>
                <a:latin typeface="Futura XBlk BT"/>
              </a:rPr>
              <a:t>PR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seguidas de um número que identifica o nº de camadas de lona do pneu (PR 8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676240"/>
          </a:xfrm>
          <a:prstGeom prst="rect">
            <a:avLst/>
          </a:prstGeom>
          <a:ln w="0">
            <a:noFill/>
          </a:ln>
        </p:spPr>
      </p:pic>
      <p:sp>
        <p:nvSpPr>
          <p:cNvPr id="224" name="Oval 5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6"/>
          <p:cNvSpPr/>
          <p:nvPr/>
        </p:nvSpPr>
        <p:spPr>
          <a:xfrm rot="2345400">
            <a:off x="3351600" y="3657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R 8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276720" y="35053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657600" y="39625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3048120" y="3276720"/>
            <a:ext cx="3045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3733920" y="3505320"/>
            <a:ext cx="380880" cy="2286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 frente do trator 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8254800" cy="370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 retaguarda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996320" cy="3751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s roda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6816960" cy="3687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s roda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62080" y="1819440"/>
            <a:ext cx="8486640" cy="4116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Script MT Bold"/>
              </a:rPr>
              <a:t>De nada serve ter muita potência no motor, se houver muita patinagem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Vinet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Vineta BT"/>
              </a:rPr>
              <a:t>Escolha o pneu cer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8" name="Picture 3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18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1523880" y="762120"/>
            <a:ext cx="6934320" cy="1295280"/>
          </a:xfrm>
          <a:prstGeom prst="wedgeEllipseCallout">
            <a:avLst>
              <a:gd name="adj1" fmla="val 2587"/>
              <a:gd name="adj2" fmla="val 2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TÊNCIA DO MOTOR TEM QUE SER TRANSMITIDA AO SO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FUNÇÕES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uportar a carg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ransmitir as forças de aceleração e travagem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irigir o veícul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articipar na suspensão e no confort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articipar na estabilidade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ransmitir informaçã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sumir a menor energia possí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62" name="Picture 4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ARACTERIZAÇÃO DOS VÁRIOS TIPOS DE PNEU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EDIDAS DOS PNEU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SISTÊNCIA DE UM PNEU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itor Miguel Figueiredo</cp:lastModifiedBy>
  <cp:lastPrinted>2017-03-20T14:39:16Z</cp:lastPrinted>
  <dcterms:modified xsi:type="dcterms:W3CDTF">2017-03-20T14:39:43Z</dcterms:modified>
  <cp:revision>374</cp:revision>
  <dc:subject/>
  <dc:title>Slide 1</dc:title>
</cp:coreProperties>
</file>