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C79-C151-45EB-B9CB-802980A9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544-5369-4D61-867C-2BA060BC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695-7F92-45F2-B00D-0AD662B6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011-FD1D-4F59-A320-B8AD9F64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ADC-DB80-4CF3-9990-A2BCADFC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A4D-1043-4FF7-A88D-B2CE0BE8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03E-123C-4615-9C62-90D2F666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7C7-2979-4C47-B52A-1D58369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F14-771C-4B8F-ADFD-C5CD636C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031-4E79-46DA-81AA-7741081C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99E-8F00-477E-AA92-14AE62B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E4B-09EA-4190-A381-4A94E14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D525-4168-4919-A90C-713E7C10DBE2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CABINE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:\FOTOS_SCANIZADAS\MAQUINAS E ALFAIAS\Tractor\Cabine de segurança.jpg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C:\FOTOS_SCANIZADAS\MAQUINAS E ALFAIAS\Tractor\Tractor de 4 rodas motrizes desiguais.jpg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rcador de Posição da Imagem Online 4" descr=""/>
          <p:cNvPicPr/>
          <p:nvPr/>
        </p:nvPicPr>
        <p:blipFill>
          <a:blip r:embed="rId1"/>
          <a:stretch/>
        </p:blipFill>
        <p:spPr>
          <a:xfrm>
            <a:off x="1403280" y="609480"/>
            <a:ext cx="6015240" cy="5794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C:\FOTOS_SCANIZADAS\MAQUINAS E ALFAIAS\Tractor\Tractor de 4 rodas motrizes iguais.jpg"/>
          <p:cNvPicPr/>
          <p:nvPr/>
        </p:nvPicPr>
        <p:blipFill>
          <a:blip r:embed="rId1"/>
          <a:stretch/>
        </p:blipFill>
        <p:spPr>
          <a:xfrm>
            <a:off x="990720" y="304920"/>
            <a:ext cx="723888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DE RASTOS (LAGARTAS OU ESTEIR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FOTOS_SCANIZADAS\MAQUINAS E ALFAIAS\Tractor\Tractor de lagartas.jpg"/>
          <p:cNvPicPr/>
          <p:nvPr/>
        </p:nvPicPr>
        <p:blipFill>
          <a:blip r:embed="rId1"/>
          <a:stretch/>
        </p:blipFill>
        <p:spPr>
          <a:xfrm>
            <a:off x="457200" y="2057400"/>
            <a:ext cx="73152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C:\FOTOS_SCANIZADAS\MAQUINAS E ALFAIAS\Tractor\Tractor de rastos_pormenor.jpg"/>
          <p:cNvPicPr/>
          <p:nvPr/>
        </p:nvPicPr>
        <p:blipFill>
          <a:blip r:embed="rId1"/>
          <a:stretch/>
        </p:blipFill>
        <p:spPr>
          <a:xfrm>
            <a:off x="1447920" y="228600"/>
            <a:ext cx="5913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TRACTOR DE RODAS GÉM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C:\FOTOS_SCANIZADAS\MAQUINAS E ALFAIAS\Tractor\Tractor de rodas gemeas.jpg"/>
          <p:cNvPicPr/>
          <p:nvPr/>
        </p:nvPicPr>
        <p:blipFill>
          <a:blip r:embed="rId1"/>
          <a:stretch/>
        </p:blipFill>
        <p:spPr>
          <a:xfrm>
            <a:off x="1447920" y="1447920"/>
            <a:ext cx="609588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ESTRE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:\FOTOS_SCANIZADAS\MAQUINAS E ALFAIAS\Tractor\Tractor estreito.jpg"/>
          <p:cNvPicPr/>
          <p:nvPr/>
        </p:nvPicPr>
        <p:blipFill>
          <a:blip r:embed="rId1"/>
          <a:stretch/>
        </p:blipFill>
        <p:spPr>
          <a:xfrm>
            <a:off x="1752480" y="1295280"/>
            <a:ext cx="53341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FL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FOTOS_SCANIZADAS\MAQUINAS E ALFAIAS\Tractor\Tractor florestal.jpg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PERN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C:\FOTOS_SCANIZADAS\MAQUINAS E ALFAIAS\Tractor\Tractor pernalta.jpg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FORMAÇÃO PROFISSIONAL\Imagens de Apoio\Cores\Tractor\Constituição.jpg"/>
          <p:cNvPicPr/>
          <p:nvPr/>
        </p:nvPicPr>
        <p:blipFill>
          <a:blip r:embed="rId1"/>
          <a:stretch/>
        </p:blipFill>
        <p:spPr>
          <a:xfrm>
            <a:off x="304920" y="228600"/>
            <a:ext cx="86248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ARCO DE SEGURANÇA OU PÓR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FOTOS_SCANIZADAS\MAQUINAS E ALFAIAS\Tractor\Arco de segurança tipo pórtico.jpg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FORMAÇÃO PROFISSIONAL\Imagens de Apoio\Cores\Tractor\Utiização.jpg"/>
          <p:cNvPicPr/>
          <p:nvPr/>
        </p:nvPicPr>
        <p:blipFill>
          <a:blip r:embed="rId1"/>
          <a:stretch/>
        </p:blipFill>
        <p:spPr>
          <a:xfrm>
            <a:off x="228600" y="45720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FORMAÇÃO PROFISSIONAL\Imagens de Apoio\Cores\Tractor\Utiização1.jpg"/>
          <p:cNvPicPr/>
          <p:nvPr/>
        </p:nvPicPr>
        <p:blipFill>
          <a:blip r:embed="rId1"/>
          <a:stretch/>
        </p:blipFill>
        <p:spPr>
          <a:xfrm>
            <a:off x="533520" y="533520"/>
            <a:ext cx="832464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FORMAÇÃO PROFISSIONAL\Imagens de Apoio\Cores\Tractor\Utiização2.jpg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R DE ARRAN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C:\FOTOS_SCANIZADAS\MAQUINAS E ALFAIAS\Tractor\Motor de arranque.jpg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523880"/>
            <a:ext cx="5410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SISTEMA HIDRÁU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C:\FOTOS_SCANIZADAS\MAQUINAS E ALFAIAS\Tractor\Sistema hidraulico.jpg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4 TEMPOS DO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609480" y="1828800"/>
          <a:ext cx="762012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QUADRO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FOTOS_SCANIZADAS\MAQUINAS E ALFAIAS\Tractor\Quadro de Segurança.jpg"/>
          <p:cNvPicPr/>
          <p:nvPr/>
        </p:nvPicPr>
        <p:blipFill>
          <a:blip r:embed="rId1"/>
          <a:stretch/>
        </p:blipFill>
        <p:spPr>
          <a:xfrm>
            <a:off x="1600200" y="1600200"/>
            <a:ext cx="62485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ICROTR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C:\FOTOS_SCANIZADAS\MAQUINAS E ALFAIAS\Tractor\Microtractor.jpg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CULTIV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C:\FOTOS_SCANIZADAS\MAQUINAS E ALFAIAS\Tractor\Motocultivador.jpg"/>
          <p:cNvPicPr/>
          <p:nvPr/>
        </p:nvPicPr>
        <p:blipFill>
          <a:blip r:embed="rId1"/>
          <a:stretch/>
        </p:blipFill>
        <p:spPr>
          <a:xfrm>
            <a:off x="1905120" y="1828800"/>
            <a:ext cx="51051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ENX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C:\FOTOS_SCANIZADAS\MAQUINAS E ALFAIAS\Tractor\Motoenxada.jpg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GADANHE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FOTOS_SCANIZADAS\MAQUINAS E ALFAIAS\Tractor\Motogadanheira.jpg"/>
          <p:cNvPicPr/>
          <p:nvPr/>
        </p:nvPicPr>
        <p:blipFill>
          <a:blip r:embed="rId1"/>
          <a:stretch/>
        </p:blipFill>
        <p:spPr>
          <a:xfrm>
            <a:off x="1295280" y="1523880"/>
            <a:ext cx="64771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FOTOS_SCANIZADAS\MAQUINAS E ALFAIAS\Tractor\Tractor articulado.jpg"/>
          <p:cNvPicPr/>
          <p:nvPr/>
        </p:nvPicPr>
        <p:blipFill>
          <a:blip r:embed="rId1"/>
          <a:stretch/>
        </p:blipFill>
        <p:spPr>
          <a:xfrm>
            <a:off x="457200" y="1523880"/>
            <a:ext cx="79246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FOTOS_SCANIZADAS\MAQUINAS E ALFAIAS\Tractor\Tractor de 2 rodas motrizes.jpg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6:55Z</dcterms:modified>
  <cp:revision>7</cp:revision>
  <dc:subject/>
  <dc:title>ARCO DE SEGURANÇA OU PÓRTICO</dc:title>
</cp:coreProperties>
</file>